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dt" idx="3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4685"/>
                </a:solidFill>
                <a:latin typeface="Tw Cen MT"/>
              </a:rPr>
              <a:t>Click to move the slide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5"/>
          <p:cNvSpPr>
            <a:spLocks noGrp="1"/>
          </p:cNvSpPr>
          <p:nvPr>
            <p:ph type="ftr" idx="3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6"/>
          <p:cNvSpPr>
            <a:spLocks noGrp="1"/>
          </p:cNvSpPr>
          <p:nvPr>
            <p:ph type="sldNum" idx="3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E1286-B112-467B-889C-C5A44D5945E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377E0-490C-491F-B19C-E1BB9DFE0DBF}" type="slidenum">
              <a:rPr b="0" lang="en-GB" sz="1200" spc="-1" strike="noStrike">
                <a:solidFill>
                  <a:srgbClr val="00468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140DD30-AFFB-4652-B814-9E9C52AE0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18D1FBD-FC52-470C-A19C-793F58AD6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EAC45EF-0319-41F5-BF6C-6711C700C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4AD6588-C1E6-436E-865D-A1695095E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CBBA8C0-3E88-4DED-9E06-666854B1A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7DD701E-DEAD-4357-B763-BDC93125A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1532079-7832-4432-9590-A8239D409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99AFB50-1DC7-4AF8-B355-1B14C45C2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0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0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76B4470-61AE-46B7-B580-E8712C62F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628429B-7959-4C81-9226-6D3DC9223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66CD90F-3E63-4B42-B22F-8C1113411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BC8EE09-4C8E-4B81-A06D-71ECB5260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2422D4E-951A-41DD-8973-2D507CBF7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03457D2-4E5C-49D2-BB5E-85FE8AB73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16CFB90-228A-4CAC-A039-AC8696817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42A4888-4642-4656-A317-8DB11CC40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8FC13A1-AA8F-4C00-AA00-979462B1E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3306E82-3BAB-49B8-B018-EA10B869B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D770817-5763-47BB-A363-217D1BE2F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5B89D67-F15E-4C48-9648-67FDB1C15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887D8C9-BBF8-4975-923E-000AD6131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A13D800-207B-4CD5-A53C-B4C210FE0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09C972F-C6AB-4147-AE96-9E16B1F9B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17ED3F7-D264-4007-88AE-897FBFBA6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A391D29-B27D-4B51-ADFC-2C1C020B6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3D67B88-6ECB-4B2B-897D-A04CBCC53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AB5ABCB-F485-48D9-82F5-D42926DB8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8DA4BAA-2446-45FE-8C97-BB528B033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9EE5948-B089-484F-B96C-97E2FE0DD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CAD7DF3-29DB-4879-810B-F2009AC88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8E1D50-7469-4B50-B447-9DBF37E63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2A4DF4B-4482-4E70-A2AF-B7F87A3CC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97B7731-640C-44C1-8884-982BB3FC7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859E472-3113-4D97-9FE5-8669A3908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795325E-B7F4-421D-943B-F83558CCD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5A5E7C4-9B9F-42F8-8412-40690064B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27181BF-CEF7-4C30-B89F-AFB97097F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CEC146A-BCA0-41C4-A7A6-4546AB4B5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A3A428A-4F1D-4DE3-AFEE-E927C231D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82244CE-F1E2-448C-8675-6D5C71AEF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D122890-65E3-4F88-8D32-7CD5EE9D9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A4CB34-33A6-4E92-B268-A9FE71A8A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6844878-4E00-48C7-BA9B-184DF29A6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77820B3-3E48-4A64-9E79-6CF7DD5D1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56F07C0-CA1C-4A79-90FC-1A2A08280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84F1943-EA48-42F5-B7C6-BE3B4627E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37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38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A0D91EA-59A8-4AE4-BC96-076B8904B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F3A0BE-E98B-409E-9245-9D0DB80BA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76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77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78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799040-730F-40D8-81FC-F0942FFF4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16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17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18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1FF17D-9AD4-463C-8106-B7206C3DD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A82650-8330-4403-A9FA-90F053583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EDB3C8-8DB4-434D-A6BF-840FAAFB2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D0EA23-6B77-4353-921E-7BC7DA09C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410EA4-9C5F-493E-9977-EA6DD9CC9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68BA55-9979-49F7-A852-0C56598D2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484800-316A-4128-9DAA-17613DEF1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D67DD4-B73A-4747-8308-D678E9E99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1360FC5-106E-4F96-B431-808DA8E70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BDF8AD-4D36-42AD-B0BE-BB5323AE8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93F9851-ECEA-4BB1-976A-FD4A57FB6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33B9863-CB29-42FD-90F3-73369324E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2FC02A8-4FC1-45EB-81FB-E965E713E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AE5260D-092D-415C-8154-67048F587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0BBDB3-977C-4C2A-B27F-CF864BC7B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709D29A-F8B1-4E5B-AC39-B22CE36B4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6E06389-E5A8-4AA7-B5D9-84EA6D51D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BDCE29D-9CAD-4B69-97CD-5418E32EA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E083A44-0B04-4CFC-92A9-E2F18EE7D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749951-07FE-421D-AAE1-84C82C459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7969FD5-B08D-49BE-9DE7-6FBE0285C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4F7A214-73C4-4BFC-ABE9-D30C5381D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11AFD26-7633-4B2B-A014-9D1E40E5D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A4881FC-A2F3-4C0D-BC9B-A4A1B9CF3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39372D2-2A19-4852-89E3-3760B4634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B1533AF-E253-4A5F-BCB6-1E9BAF07E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ECA9D30-982C-4223-8731-842DD2FCB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2E1703D-8FAE-46BA-B17F-A602B0A97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C484A2F-2040-46BD-A9D2-2DBDD70B7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46C732D-1E7A-4EAB-B3DB-FB75B3469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FAB6780-54E5-4C11-9B73-7B912A28A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F3B4246-1B25-48BA-8EC7-5A6E94448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D374538-A0CA-4F4E-B609-67B69F52A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F09C7A5-9AB0-4170-89DF-2E0EAA4B6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6E51FA7-FCD8-4014-BC93-6DEE5B0B9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05F6234-FF94-4813-A5D0-2E644BBC2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DF72579-3BE2-4260-81CC-E3679F724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3A4EC2A-8C97-4260-AD46-B321AF046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D344F5B-4005-4AFB-B400-FF9E279B3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11B94BB-6BD3-4E6A-8389-5489F4F05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4C1227A-2C9E-4B13-9BD2-D19DA213E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3C509E6-D98A-4AF9-865E-8D1E17A8A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E7F1E5D-C28D-4612-A189-C16C383FA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2CDAD85-C9B1-497E-8AA6-B77F62C61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AB6D1D8-824B-4CC3-A104-40A75997F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0651F02-3402-48BF-A213-D10AC303A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64390D1-0E3C-48B8-A0E9-2FF1886F0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D8E9035-2DF6-4A29-A3E6-CB24C5A9C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D4491E6-2930-4F60-BD46-1712C52DD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1018A89-6C9A-46C6-93A2-DA60A1012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C67825B-119B-46F1-966A-51004FD94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7B8D8EB-FA80-4BF3-A169-E038F7AEE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509F7B9-58E3-438A-B2B0-25F5AB39D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2CD6A95-9F7F-404C-A456-D47F28A19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18262FC-28B5-4B59-AAE0-4BD5E8CE2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5F75684-5F71-4AC9-8AA8-C03827FD5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B3EDE77-A2FB-4D2C-AB3E-ADCBFA2F2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FC0FAA5-2ACE-4258-8F69-19AC20A3D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CB3829E-BAA8-4420-A38A-D77C1E3AB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63D8080-1755-4B9F-B810-44FE9374E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0B47F99-0823-4EA0-9BF7-9F81790CB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F9F17B9-1F04-4314-ADC1-1B9588855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566D57B-F24C-4A34-BF56-1B11C0407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9B1CCC2-073A-4085-BE1E-027AD1FF6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92DCC56-6FBA-4F0D-88C1-2C673BF89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12E08E9-999C-4A3A-9C3D-EF17890BE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C858AB7-BCC2-4BF0-9D12-B645CD3AE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B8CA549-987F-42DA-B81F-02F242F6C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6ECEAE9-EB91-45F4-9E94-EFBD49671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363E278-81CE-409E-8F02-06B011C3D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49D090E-FF4B-487D-B54C-F570D02E3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0E9E342-5AC5-491B-8E8A-CB4B0A14C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6B12C2F-EB71-425B-96FE-C84A3BD08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9FE2930-686E-4E2E-8F0B-2AE569453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9119E59-E589-49C6-868B-DA44AB541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B01B777-70AB-44BD-A45A-0957E4B53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481EA8E-2C8C-46C3-A4FC-440F6D732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4A9B008-8B7B-47DC-A7AB-1290960BF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C5A62E1-5D89-4789-83C2-77D45E9A7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DD4CEED-A3DE-4BEA-BC3E-8E97F1008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516C2A4-3448-4542-BBA1-DB0CF0AA3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9BF4B8C-92F8-4EE5-A38D-CCD4CF6D3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2463B4B-0746-4D89-BD50-D0A239677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7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4685"/>
                </a:solidFill>
                <a:latin typeface="Tw Cen MT"/>
              </a:rPr>
              <a:t>Click to edit the title text format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a2e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0468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00a2e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468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468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5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0046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pic>
        <p:nvPicPr>
          <p:cNvPr id="6" name="Picture 10" descr=""/>
          <p:cNvPicPr/>
          <p:nvPr/>
        </p:nvPicPr>
        <p:blipFill>
          <a:blip r:embed="rId2"/>
          <a:stretch/>
        </p:blipFill>
        <p:spPr>
          <a:xfrm>
            <a:off x="8112240" y="401760"/>
            <a:ext cx="860400" cy="595080"/>
          </a:xfrm>
          <a:prstGeom prst="rect">
            <a:avLst/>
          </a:prstGeom>
          <a:ln w="0">
            <a:noFill/>
          </a:ln>
        </p:spPr>
      </p:pic>
      <p:sp>
        <p:nvSpPr>
          <p:cNvPr id="7" name="Rectangle 12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00a2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>
            <a:lum bright="70000" contrast="-70000"/>
          </a:blip>
          <a:srcRect l="41835" t="0" r="4303" b="0"/>
          <a:stretch/>
        </p:blipFill>
        <p:spPr>
          <a:xfrm>
            <a:off x="-17640" y="3495600"/>
            <a:ext cx="9171000" cy="3362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10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405" name="Rectangle 11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00a2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406" name="Rectangle 14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0046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407" name="Rectangle 15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4685"/>
                </a:solidFill>
                <a:latin typeface="Tw Cen MT"/>
              </a:rPr>
              <a:t>Click to edit the title text format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a2e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0468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00a2e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dt" idx="27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468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468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sldNum" idx="28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4481E-2837-473B-975F-AF998E4636F4}" type="slidenum"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 type="ftr" idx="29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450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0046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pic>
        <p:nvPicPr>
          <p:cNvPr id="451" name="Picture 10" descr=""/>
          <p:cNvPicPr/>
          <p:nvPr/>
        </p:nvPicPr>
        <p:blipFill>
          <a:blip r:embed="rId2"/>
          <a:stretch/>
        </p:blipFill>
        <p:spPr>
          <a:xfrm>
            <a:off x="8112240" y="401760"/>
            <a:ext cx="860400" cy="595080"/>
          </a:xfrm>
          <a:prstGeom prst="rect">
            <a:avLst/>
          </a:prstGeom>
          <a:ln w="0">
            <a:noFill/>
          </a:ln>
        </p:spPr>
      </p:pic>
      <p:sp>
        <p:nvSpPr>
          <p:cNvPr id="452" name="Rectangle 12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00a2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pic>
        <p:nvPicPr>
          <p:cNvPr id="453" name="Picture 10" descr=""/>
          <p:cNvPicPr/>
          <p:nvPr/>
        </p:nvPicPr>
        <p:blipFill>
          <a:blip r:embed="rId3">
            <a:lum bright="70000" contrast="-70000"/>
          </a:blip>
          <a:srcRect l="41835" t="0" r="4303" b="0"/>
          <a:stretch/>
        </p:blipFill>
        <p:spPr>
          <a:xfrm>
            <a:off x="-17640" y="3495600"/>
            <a:ext cx="9171000" cy="3362400"/>
          </a:xfrm>
          <a:prstGeom prst="rect">
            <a:avLst/>
          </a:prstGeom>
          <a:ln w="0">
            <a:noFill/>
          </a:ln>
        </p:spPr>
      </p:pic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4685"/>
                </a:solidFill>
                <a:latin typeface="Tw Cen MT"/>
              </a:rPr>
              <a:t>Click to edit the title text format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a2e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0468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00a2e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3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468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468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1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2"/>
          </p:nvPr>
        </p:nvSpPr>
        <p:spPr>
          <a:xfrm>
            <a:off x="-67464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83BD1-A7DC-4ABA-8AC3-CB4C8EC02F7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10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496" name="Rectangle 11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0046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497" name="Rectangle 14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00a2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4685"/>
                </a:solidFill>
                <a:latin typeface="Tw Cen MT"/>
              </a:rPr>
              <a:t>Click to edit the title text format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a2e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0468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00a2e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 type="dt" idx="33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468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468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 type="ftr" idx="34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 type="sldNum" idx="35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81358-007C-4056-81F4-C7204173AB7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9" name="Picture 10" descr=""/>
          <p:cNvPicPr/>
          <p:nvPr/>
        </p:nvPicPr>
        <p:blipFill>
          <a:blip r:embed="rId2"/>
          <a:srcRect l="41833" t="0" r="4303" b="0"/>
          <a:stretch/>
        </p:blipFill>
        <p:spPr>
          <a:xfrm>
            <a:off x="-17640" y="3495600"/>
            <a:ext cx="9171000" cy="3362400"/>
          </a:xfrm>
          <a:prstGeom prst="rect">
            <a:avLst/>
          </a:prstGeom>
          <a:ln w="0">
            <a:noFill/>
          </a:ln>
        </p:spPr>
      </p:pic>
      <p:pic>
        <p:nvPicPr>
          <p:cNvPr id="540" name="Picture 15" descr=""/>
          <p:cNvPicPr/>
          <p:nvPr/>
        </p:nvPicPr>
        <p:blipFill>
          <a:blip r:embed="rId3"/>
          <a:stretch/>
        </p:blipFill>
        <p:spPr>
          <a:xfrm>
            <a:off x="7156440" y="290520"/>
            <a:ext cx="1714680" cy="1187280"/>
          </a:xfrm>
          <a:prstGeom prst="rect">
            <a:avLst/>
          </a:prstGeom>
          <a:ln w="0">
            <a:noFill/>
          </a:ln>
        </p:spPr>
      </p:pic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4685"/>
                </a:solidFill>
                <a:latin typeface="Tw Cen MT"/>
              </a:rPr>
              <a:t>Click to edit the title text format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a2e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0468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00a2e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9" name="Picture 10" descr=""/>
          <p:cNvPicPr/>
          <p:nvPr/>
        </p:nvPicPr>
        <p:blipFill>
          <a:blip r:embed="rId2"/>
          <a:srcRect l="42014" t="0" r="4533" b="0"/>
          <a:stretch/>
        </p:blipFill>
        <p:spPr>
          <a:xfrm>
            <a:off x="-11160" y="3476520"/>
            <a:ext cx="9155160" cy="3381480"/>
          </a:xfrm>
          <a:prstGeom prst="rect">
            <a:avLst/>
          </a:prstGeom>
          <a:ln w="0">
            <a:noFill/>
          </a:ln>
        </p:spPr>
      </p:pic>
      <p:pic>
        <p:nvPicPr>
          <p:cNvPr id="580" name="Picture 15" descr=""/>
          <p:cNvPicPr/>
          <p:nvPr/>
        </p:nvPicPr>
        <p:blipFill>
          <a:blip r:embed="rId3"/>
          <a:stretch/>
        </p:blipFill>
        <p:spPr>
          <a:xfrm>
            <a:off x="7156440" y="290520"/>
            <a:ext cx="1714680" cy="1187280"/>
          </a:xfrm>
          <a:prstGeom prst="rect">
            <a:avLst/>
          </a:prstGeom>
          <a:ln w="0">
            <a:noFill/>
          </a:ln>
        </p:spPr>
      </p:pic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4685"/>
                </a:solidFill>
                <a:latin typeface="Tw Cen MT"/>
              </a:rPr>
              <a:t>Click to edit the title text format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a2e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0468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00a2e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6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10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00a2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47" name="Rectangle 14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0046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a2e2"/>
                </a:solidFill>
                <a:latin typeface="Tw Cen MT"/>
              </a:rPr>
              <a:t>Click to edit the title text format</a:t>
            </a:r>
            <a:endParaRPr b="0" lang="en-US" sz="4000" spc="-1" strike="noStrike">
              <a:solidFill>
                <a:srgbClr val="00a2e2"/>
              </a:solidFill>
              <a:latin typeface="Tw Cen M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a2e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0468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00a2e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3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4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5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a2e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3FB90-53A5-4AB6-9DD6-44485C225F8F}" type="slidenum">
              <a:rPr b="0" lang="en-US" sz="2400" spc="-1" strike="noStrike">
                <a:solidFill>
                  <a:srgbClr val="00a2e2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90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0046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pic>
        <p:nvPicPr>
          <p:cNvPr id="91" name="Picture 10" descr=""/>
          <p:cNvPicPr/>
          <p:nvPr/>
        </p:nvPicPr>
        <p:blipFill>
          <a:blip r:embed="rId2"/>
          <a:stretch/>
        </p:blipFill>
        <p:spPr>
          <a:xfrm>
            <a:off x="8112240" y="401760"/>
            <a:ext cx="860400" cy="59508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12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00a2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pic>
        <p:nvPicPr>
          <p:cNvPr id="93" name="Picture 10" descr=""/>
          <p:cNvPicPr/>
          <p:nvPr/>
        </p:nvPicPr>
        <p:blipFill>
          <a:blip r:embed="rId3">
            <a:lum bright="70000" contrast="-70000"/>
          </a:blip>
          <a:srcRect l="41835" t="0" r="4303" b="0"/>
          <a:stretch/>
        </p:blipFill>
        <p:spPr>
          <a:xfrm>
            <a:off x="-17640" y="3495600"/>
            <a:ext cx="9171000" cy="33624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4685"/>
                </a:solidFill>
                <a:latin typeface="Tw Cen MT"/>
              </a:rPr>
              <a:t>Click to edit the title text format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a2e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0468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00a2e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468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468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8"/>
          </p:nvPr>
        </p:nvSpPr>
        <p:spPr>
          <a:xfrm>
            <a:off x="-67464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016F7-9B3D-4A4F-9B90-A283EF65184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10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136" name="Rectangle 11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00a2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137" name="Rectangle 14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0046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4685"/>
                </a:solidFill>
                <a:latin typeface="Tw Cen MT"/>
              </a:rPr>
              <a:t>Click to edit the title text format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a2e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0468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00a2e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9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468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468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sldNum" idx="10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97E9A-961C-4FA1-86C9-32B23F38E5F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ftr" idx="11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180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0046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pic>
        <p:nvPicPr>
          <p:cNvPr id="181" name="Picture 10" descr=""/>
          <p:cNvPicPr/>
          <p:nvPr/>
        </p:nvPicPr>
        <p:blipFill>
          <a:blip r:embed="rId2"/>
          <a:stretch/>
        </p:blipFill>
        <p:spPr>
          <a:xfrm>
            <a:off x="8112240" y="401760"/>
            <a:ext cx="860400" cy="595080"/>
          </a:xfrm>
          <a:prstGeom prst="rect">
            <a:avLst/>
          </a:prstGeom>
          <a:ln w="0">
            <a:noFill/>
          </a:ln>
        </p:spPr>
      </p:pic>
      <p:sp>
        <p:nvSpPr>
          <p:cNvPr id="182" name="Rectangle 12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00a2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pic>
        <p:nvPicPr>
          <p:cNvPr id="183" name="Picture 10" descr=""/>
          <p:cNvPicPr/>
          <p:nvPr/>
        </p:nvPicPr>
        <p:blipFill>
          <a:blip r:embed="rId3">
            <a:lum bright="70000" contrast="-70000"/>
          </a:blip>
          <a:srcRect l="41835" t="0" r="4303" b="0"/>
          <a:stretch/>
        </p:blipFill>
        <p:spPr>
          <a:xfrm>
            <a:off x="-17640" y="3495600"/>
            <a:ext cx="9171000" cy="3362400"/>
          </a:xfrm>
          <a:prstGeom prst="rect">
            <a:avLst/>
          </a:prstGeom>
          <a:ln w="0">
            <a:noFill/>
          </a:ln>
        </p:spPr>
      </p:pic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4685"/>
                </a:solidFill>
                <a:latin typeface="Tw Cen MT"/>
              </a:rPr>
              <a:t>Click to edit the title text format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a2e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0468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00a2e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dt" idx="12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468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468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sldNum" idx="13"/>
          </p:nvPr>
        </p:nvSpPr>
        <p:spPr>
          <a:xfrm>
            <a:off x="-67464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14557-3A6D-4652-81B4-DE90347AB44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ftr" idx="14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22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0046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pic>
        <p:nvPicPr>
          <p:cNvPr id="227" name="Picture 10" descr=""/>
          <p:cNvPicPr/>
          <p:nvPr/>
        </p:nvPicPr>
        <p:blipFill>
          <a:blip r:embed="rId2"/>
          <a:stretch/>
        </p:blipFill>
        <p:spPr>
          <a:xfrm>
            <a:off x="8112240" y="401760"/>
            <a:ext cx="860400" cy="595080"/>
          </a:xfrm>
          <a:prstGeom prst="rect">
            <a:avLst/>
          </a:prstGeom>
          <a:ln w="0">
            <a:noFill/>
          </a:ln>
        </p:spPr>
      </p:pic>
      <p:sp>
        <p:nvSpPr>
          <p:cNvPr id="228" name="Rectangle 12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00a2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pic>
        <p:nvPicPr>
          <p:cNvPr id="229" name="Picture 10" descr=""/>
          <p:cNvPicPr/>
          <p:nvPr/>
        </p:nvPicPr>
        <p:blipFill>
          <a:blip r:embed="rId3">
            <a:lum bright="70000" contrast="-70000"/>
          </a:blip>
          <a:srcRect l="41835" t="0" r="4303" b="0"/>
          <a:stretch/>
        </p:blipFill>
        <p:spPr>
          <a:xfrm>
            <a:off x="-17640" y="3495600"/>
            <a:ext cx="9171000" cy="3362400"/>
          </a:xfrm>
          <a:prstGeom prst="rect">
            <a:avLst/>
          </a:prstGeom>
          <a:ln w="0">
            <a:noFill/>
          </a:ln>
        </p:spPr>
      </p:pic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4685"/>
                </a:solidFill>
                <a:latin typeface="Tw Cen MT"/>
              </a:rPr>
              <a:t>Click to edit the title text format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a2e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0468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00a2e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dt" idx="15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468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468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 type="sldNum" idx="16"/>
          </p:nvPr>
        </p:nvSpPr>
        <p:spPr>
          <a:xfrm>
            <a:off x="-67464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04375-D540-45AC-ACD0-F2F8CAC58B1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272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0046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pic>
        <p:nvPicPr>
          <p:cNvPr id="273" name="Picture 10" descr=""/>
          <p:cNvPicPr/>
          <p:nvPr/>
        </p:nvPicPr>
        <p:blipFill>
          <a:blip r:embed="rId2"/>
          <a:stretch/>
        </p:blipFill>
        <p:spPr>
          <a:xfrm>
            <a:off x="8112240" y="401760"/>
            <a:ext cx="860400" cy="595080"/>
          </a:xfrm>
          <a:prstGeom prst="rect">
            <a:avLst/>
          </a:prstGeom>
          <a:ln w="0">
            <a:noFill/>
          </a:ln>
        </p:spPr>
      </p:pic>
      <p:sp>
        <p:nvSpPr>
          <p:cNvPr id="274" name="Rectangle 12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00a2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pic>
        <p:nvPicPr>
          <p:cNvPr id="275" name="Picture 10" descr=""/>
          <p:cNvPicPr/>
          <p:nvPr/>
        </p:nvPicPr>
        <p:blipFill>
          <a:blip r:embed="rId3">
            <a:lum bright="70000" contrast="-70000"/>
          </a:blip>
          <a:srcRect l="41835" t="0" r="4303" b="0"/>
          <a:stretch/>
        </p:blipFill>
        <p:spPr>
          <a:xfrm>
            <a:off x="-17640" y="3495600"/>
            <a:ext cx="9171000" cy="3362400"/>
          </a:xfrm>
          <a:prstGeom prst="rect">
            <a:avLst/>
          </a:prstGeom>
          <a:ln w="0">
            <a:noFill/>
          </a:ln>
        </p:spPr>
      </p:pic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4685"/>
                </a:solidFill>
                <a:latin typeface="Tw Cen MT"/>
              </a:rPr>
              <a:t>Click to edit the title text format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a2e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0468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00a2e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8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468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468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1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0"/>
          </p:nvPr>
        </p:nvSpPr>
        <p:spPr>
          <a:xfrm>
            <a:off x="-67464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10E67-AF02-4099-8510-5E82BFFCB2B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4685"/>
                </a:solidFill>
                <a:latin typeface="Tw Cen MT"/>
              </a:rPr>
              <a:t>Click to edit the title text format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a2e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0468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00a2e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468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468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3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468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E1522-FEA5-43A1-B4E4-19BF6E516DEE}" type="slidenum">
              <a:rPr b="0" lang="en-US" sz="2400" spc="-1" strike="noStrike">
                <a:solidFill>
                  <a:srgbClr val="004685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59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0046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pic>
        <p:nvPicPr>
          <p:cNvPr id="360" name="Picture 10" descr=""/>
          <p:cNvPicPr/>
          <p:nvPr/>
        </p:nvPicPr>
        <p:blipFill>
          <a:blip r:embed="rId2"/>
          <a:stretch/>
        </p:blipFill>
        <p:spPr>
          <a:xfrm>
            <a:off x="8112240" y="401760"/>
            <a:ext cx="860400" cy="595080"/>
          </a:xfrm>
          <a:prstGeom prst="rect">
            <a:avLst/>
          </a:prstGeom>
          <a:ln w="0">
            <a:noFill/>
          </a:ln>
        </p:spPr>
      </p:pic>
      <p:sp>
        <p:nvSpPr>
          <p:cNvPr id="361" name="Rectangle 12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00a2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pic>
        <p:nvPicPr>
          <p:cNvPr id="362" name="Picture 10" descr=""/>
          <p:cNvPicPr/>
          <p:nvPr/>
        </p:nvPicPr>
        <p:blipFill>
          <a:blip r:embed="rId3">
            <a:lum bright="70000" contrast="-70000"/>
          </a:blip>
          <a:srcRect l="41835" t="0" r="4303" b="0"/>
          <a:stretch/>
        </p:blipFill>
        <p:spPr>
          <a:xfrm>
            <a:off x="-17640" y="3495600"/>
            <a:ext cx="9171000" cy="3362400"/>
          </a:xfrm>
          <a:prstGeom prst="rect">
            <a:avLst/>
          </a:prstGeom>
          <a:ln w="0">
            <a:noFill/>
          </a:ln>
        </p:spPr>
      </p:pic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4685"/>
                </a:solidFill>
                <a:latin typeface="Tw Cen MT"/>
              </a:rPr>
              <a:t>Click to edit the title text format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a2e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0468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00a2e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 type="dt" idx="24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468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468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 type="ftr" idx="2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 type="sldNum" idx="26"/>
          </p:nvPr>
        </p:nvSpPr>
        <p:spPr>
          <a:xfrm>
            <a:off x="-67464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A248A-F9A3-401E-8935-349B13CE71A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subTitle"/>
          </p:nvPr>
        </p:nvSpPr>
        <p:spPr>
          <a:xfrm>
            <a:off x="306360" y="2641320"/>
            <a:ext cx="6632640" cy="223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taff Governance Board Update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May 2022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4685"/>
                </a:solidFill>
                <a:latin typeface="Tw Cen MT"/>
              </a:rPr>
              <a:t>Absence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28" name=""/>
          <p:cNvSpPr txBox="1"/>
          <p:nvPr/>
        </p:nvSpPr>
        <p:spPr>
          <a:xfrm>
            <a:off x="612720" y="4618080"/>
            <a:ext cx="8153280" cy="167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77200" indent="-27720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4685"/>
                </a:solidFill>
                <a:latin typeface="Tw Cen MT"/>
              </a:rPr>
              <a:t>6% in March 2022 - same a previous month</a:t>
            </a:r>
            <a:endParaRPr b="0" lang="en-US" sz="2000" spc="-1" strike="noStrike">
              <a:solidFill>
                <a:srgbClr val="004685"/>
              </a:solidFill>
              <a:latin typeface="Tw Cen MT"/>
            </a:endParaRPr>
          </a:p>
          <a:p>
            <a:pPr marL="277200" indent="-27720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4685"/>
                </a:solidFill>
                <a:latin typeface="Tw Cen MT"/>
              </a:rPr>
              <a:t>Potential audit of mental health related absence to assess proportion of non-work related absence</a:t>
            </a:r>
            <a:endParaRPr b="0" lang="en-US" sz="2000" spc="-1" strike="noStrike">
              <a:solidFill>
                <a:srgbClr val="004685"/>
              </a:solidFill>
              <a:latin typeface="Tw Cen MT"/>
            </a:endParaRPr>
          </a:p>
          <a:p>
            <a:pPr marL="277200" indent="-27720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4685"/>
                </a:solidFill>
                <a:latin typeface="Tw Cen MT"/>
              </a:rPr>
              <a:t>Cost of living pressures may feed into absence rates</a:t>
            </a:r>
            <a:endParaRPr b="0" lang="en-US" sz="2000" spc="-1" strike="noStrike">
              <a:solidFill>
                <a:srgbClr val="004685"/>
              </a:solidFill>
              <a:latin typeface="Tw Cen MT"/>
            </a:endParaRPr>
          </a:p>
          <a:p>
            <a:pPr marL="277200" indent="-27720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4685"/>
                </a:solidFill>
                <a:latin typeface="Tw Cen MT"/>
              </a:rPr>
              <a:t>Consideration of risk related to cost of living for board risk register</a:t>
            </a:r>
            <a:endParaRPr b="0" lang="en-US" sz="2000" spc="-1" strike="noStrike">
              <a:solidFill>
                <a:srgbClr val="004685"/>
              </a:solidFill>
              <a:latin typeface="Tw Cen MT"/>
            </a:endParaRPr>
          </a:p>
        </p:txBody>
      </p:sp>
      <p:pic>
        <p:nvPicPr>
          <p:cNvPr id="629" name="Picture 2" descr=""/>
          <p:cNvPicPr/>
          <p:nvPr/>
        </p:nvPicPr>
        <p:blipFill>
          <a:blip r:embed="rId1"/>
          <a:stretch/>
        </p:blipFill>
        <p:spPr>
          <a:xfrm>
            <a:off x="1146240" y="1558800"/>
            <a:ext cx="6959520" cy="31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4685"/>
                </a:solidFill>
                <a:latin typeface="Tw Cen MT"/>
              </a:rPr>
              <a:t>Appraisal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3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4685"/>
                </a:solidFill>
                <a:latin typeface="Tw Cen MT"/>
              </a:rPr>
              <a:t>Agenda for change appraisal rate 52% in March 2022 – a  number of appraisals completed at this time last year now due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4685"/>
                </a:solidFill>
                <a:latin typeface="Tw Cen MT"/>
              </a:rPr>
              <a:t>Medical appraisal rate 84% in March 2022 (124/148)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4685"/>
                </a:solidFill>
                <a:latin typeface="Tw Cen MT"/>
              </a:rPr>
              <a:t>68.7% Job Plans complete for 2022/2023 (79/115)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4685"/>
                </a:solidFill>
                <a:latin typeface="Tw Cen MT"/>
              </a:rPr>
              <a:t>Workforce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3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4685"/>
                </a:solidFill>
                <a:latin typeface="Tw Cen MT"/>
              </a:rPr>
              <a:t>International recruitment has commenced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4685"/>
                </a:solidFill>
                <a:latin typeface="Tw Cen MT"/>
              </a:rPr>
              <a:t>Successful recruitment event in eye centre – learning from this will inform future events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7T13:33:31Z</dcterms:created>
  <dc:creator>Martin Clark</dc:creator>
  <dc:description/>
  <dc:language>en-US</dc:language>
  <cp:lastModifiedBy>Gareth Adkins</cp:lastModifiedBy>
  <dcterms:modified xsi:type="dcterms:W3CDTF">2022-05-23T08:24:41Z</dcterms:modified>
  <cp:revision>221</cp:revision>
  <dc:subject/>
  <dc:title>West of Scotland  Cardio-Thoracic Surgery Centre  Engagement Event</dc:title>
</cp:coreProperties>
</file>